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.gif" ContentType="image/gif"/>
  <Override PartName="/ppt/media/image16.wmf" ContentType="image/x-wmf"/>
  <Override PartName="/ppt/media/image4.jpeg" ContentType="image/jpeg"/>
  <Override PartName="/ppt/media/image14.gif" ContentType="image/gif"/>
  <Override PartName="/ppt/media/image2.wmf" ContentType="image/x-wmf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9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CD6-B294-46E6-B80B-7AF2CA4C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23D-17B6-4368-A9E1-50C842B4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1C5-D473-44D0-A6CC-D4ECD2A6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32F-D54E-4470-B780-A4FA1295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A767-BE03-465A-B4D0-731C6399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E23-224C-4696-92B9-2808D424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E5BC-FE38-4AA2-8E86-7E3BEF39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63B8-F09B-4C2A-B94F-069125C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96BB-12B9-4C36-88A5-850B8BB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036B-4C6A-448D-B0E0-115BF0EA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22CD-F27D-4801-9C4A-486E25C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EF2-0EFD-4CE5-AA0B-7C3E986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BC91-16AB-44CA-BE82-44BD37F6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7ED1-3445-4ED8-9AD3-D5E5F923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3C49-DFAC-472A-B677-0016F1E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ECE8-1550-43C1-B303-43252C3A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55EE-5615-4B1B-8BF8-EB604A3E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ABDB-FB85-4E80-AAED-865C2938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ADB7-4AFD-4C30-986F-3E95735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CF2A-29BD-46CA-B8EE-E693E850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4602-D747-4F76-AEBA-9C45081B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21B1-EB35-4937-9014-71D75476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6DC-D583-4191-BAD6-6AB8994A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9EEC-42FB-4843-BC71-697A106E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3D47-5DF3-48F6-8D7F-72137BA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F59D-2530-4F99-B93A-9EB28B4F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743B-11C7-469F-9BB6-6EC02DE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5D18-D1D8-4A84-88A5-FF902C43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ADB9-B281-482F-AF32-506011C0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5DCE-195C-4E57-A2FE-7DA3AD9B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44FB-99C3-4CF6-88EB-5C0877BF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84C5-A0C0-49FD-B749-0118AD1E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A42E-A843-431A-99EB-0EAC0F90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51E-10C9-4A56-873A-CB97BFE0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18330-52F8-48A5-ADC0-3FA52321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6670-B2A1-486E-8E19-65103D4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35A8-CDEC-4F35-B42A-82791921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2EE50-8B64-447B-9BC7-3A61EFA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0D35-DF7D-476D-A84E-45AA0258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CCE5-929E-4D6B-ACE5-92FB89D1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AA32-BAC1-412A-A2DF-F496FD3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AE23-DC8E-41A3-9EC6-4CDCC991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E120-7BBA-4F47-8DB7-2067CE9D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16A-F4DD-4FCD-87A2-D886658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C2A-3519-455E-98E4-31ECE6C8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0BC-5FDE-4B20-801D-C22BC693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437-EE74-4751-9FB5-5FD6CB0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B9B-E3A4-4120-A049-1CFEBE34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636-23DD-4AFB-9621-904F9AFED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04BC-58CA-451F-943E-9730F62DA3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3165-8F20-40DF-A8F9-3DCF150BD7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DB7E-37CF-40E9-BCAE-D6555D3F8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wm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vi.wikipedia.org/w/index.php?title=Nh&#224;_so&#7841;n_k&#7883;ch&amp;action=edit&amp;redlink=1" TargetMode="External"/><Relationship Id="rId3" Type="http://schemas.openxmlformats.org/officeDocument/2006/relationships/hyperlink" Target="http://vi.wikipedia.org/wiki/Nh&#224;_th&#417;" TargetMode="External"/><Relationship Id="rId4" Type="http://schemas.openxmlformats.org/officeDocument/2006/relationships/hyperlink" Target="http://vi.wikipedia.org/wiki/Nh&#224;_v&#259;n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2256120" cy="3809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2209680" cy="3809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657600" y="838080"/>
            <a:ext cx="1752480" cy="1078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743200" y="380880"/>
            <a:ext cx="3816360" cy="32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32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latin typeface=".VnTimeH"/>
              </a:rPr>
              <a:t>phßng gd-®t tp nha trang</a:t>
            </a:r>
            <a:endParaRPr b="1" lang="en-US" sz="800" spc="1" strike="noStrike">
              <a:ln w="9360">
                <a:solidFill>
                  <a:srgbClr val="ffff00"/>
                </a:solidFill>
                <a:miter/>
              </a:ln>
              <a:solidFill>
                <a:srgbClr val="00ff00"/>
              </a:solidFill>
              <a:latin typeface=".VnTimeH"/>
              <a:ea typeface=".VnTimeH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14600" y="2057400"/>
            <a:ext cx="4267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.VnTifani HeavyH"/>
              </a:rPr>
              <a:t>tr­êng tiÓu häc ph­íc h¶i 3</a:t>
            </a:r>
            <a:endParaRPr b="1" lang="en-US" sz="1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.VnTifani HeavyH"/>
              <a:ea typeface=".VnTifani HeavyH"/>
            </a:endParaRPr>
          </a:p>
        </p:txBody>
      </p:sp>
      <p:sp>
        <p:nvSpPr>
          <p:cNvPr id="174" name=""/>
          <p:cNvSpPr/>
          <p:nvPr/>
        </p:nvSpPr>
        <p:spPr>
          <a:xfrm>
            <a:off x="2690640" y="1752480"/>
            <a:ext cx="659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82760" y="1752480"/>
            <a:ext cx="659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75240" y="1752480"/>
            <a:ext cx="65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67360" y="1752480"/>
            <a:ext cx="660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9480" y="1752480"/>
            <a:ext cx="660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22880" y="1752480"/>
            <a:ext cx="65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1752480"/>
            <a:ext cx="65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ebdings"/>
                <a:ea typeface="Webdings"/>
              </a:rPr>
              <a:t>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28800" y="3048120"/>
            <a:ext cx="527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.VnTimeH"/>
              </a:rPr>
              <a:t>TiÕng viÖt 3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.VnTimeH"/>
              <a:ea typeface=".VnTimeH"/>
            </a:endParaRPr>
          </a:p>
        </p:txBody>
      </p:sp>
      <p:sp>
        <p:nvSpPr>
          <p:cNvPr id="182" name=""/>
          <p:cNvSpPr/>
          <p:nvPr/>
        </p:nvSpPr>
        <p:spPr>
          <a:xfrm>
            <a:off x="633240" y="4299120"/>
            <a:ext cx="79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.VnTimeH"/>
              </a:rPr>
              <a:t>CHµO MõNG c¸c thÇy c« gi¸o vÒ THAM Dù TIÕT HäC H¤M N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5257800"/>
            <a:ext cx="678348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.VnTime"/>
              </a:rPr>
              <a:t>Ng­êi thùc hiÖn : </a:t>
            </a:r>
            <a:r>
              <a:rPr b="1" lang="en-US" sz="2600" spc="-1" strike="noStrike">
                <a:solidFill>
                  <a:srgbClr val="ffff66"/>
                </a:solidFill>
                <a:latin typeface="VNI-Times"/>
              </a:rPr>
              <a:t>Traàn Vaên Duy</a:t>
            </a:r>
            <a:r>
              <a:rPr b="1" lang="en-US" sz="2600" spc="-1" strike="noStrike">
                <a:solidFill>
                  <a:srgbClr val="ffff66"/>
                </a:solidFill>
                <a:latin typeface=".VnTim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.VnTimeH"/>
              </a:rPr>
              <a:t>Líp 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040" y="2114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Đọc đú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4419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2133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ừ ng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5840" y="1386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yện đọ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1447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ìm hiểu bà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57200" y="0"/>
            <a:ext cx="8039160" cy="1553040"/>
            <a:chOff x="457200" y="0"/>
            <a:chExt cx="8039160" cy="1553040"/>
          </a:xfrm>
        </p:grpSpPr>
        <p:sp>
          <p:nvSpPr>
            <p:cNvPr id="272" name=""/>
            <p:cNvSpPr/>
            <p:nvPr/>
          </p:nvSpPr>
          <p:spPr>
            <a:xfrm>
              <a:off x="2225160" y="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ứ ba, ngày 02 tháng 3 năm 2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716040"/>
              <a:ext cx="2133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Tập đọc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971800" y="685800"/>
              <a:ext cx="5524560" cy="867240"/>
              <a:chOff x="2971800" y="685800"/>
              <a:chExt cx="5524560" cy="867240"/>
            </a:xfrm>
          </p:grpSpPr>
          <p:sp>
            <p:nvSpPr>
              <p:cNvPr id="275" name=""/>
              <p:cNvSpPr txBox="1"/>
              <p:nvPr/>
            </p:nvSpPr>
            <p:spPr>
              <a:xfrm>
                <a:off x="2971800" y="685800"/>
                <a:ext cx="3495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2f01"/>
                      </a:solidFill>
                      <a:miter/>
                    </a:ln>
                    <a:solidFill>
                      <a:srgbClr val="ff2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Tiếng đàn</a:t>
                </a:r>
                <a:endPara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438960" y="11541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.VnTime"/>
                  </a:rPr>
                  <a:t>(L­u Quang Vò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-38160" y="2419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324000" y="276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48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trắng trẻ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908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ửng h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57240" y="3747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sẫm mà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40910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khẽ rung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09920" y="2762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43480" y="3100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lên d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76680" y="2438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19440" y="33908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dân ch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0"/>
            <a:ext cx="8039160" cy="1553040"/>
            <a:chOff x="457200" y="0"/>
            <a:chExt cx="8039160" cy="1553040"/>
          </a:xfrm>
        </p:grpSpPr>
        <p:sp>
          <p:nvSpPr>
            <p:cNvPr id="291" name=""/>
            <p:cNvSpPr/>
            <p:nvPr/>
          </p:nvSpPr>
          <p:spPr>
            <a:xfrm>
              <a:off x="2225160" y="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ứ ba, ngày 02 tháng 3 năm 2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" y="716040"/>
              <a:ext cx="2133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Tập đọc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2971800" y="685800"/>
              <a:ext cx="5524560" cy="867240"/>
              <a:chOff x="2971800" y="685800"/>
              <a:chExt cx="5524560" cy="867240"/>
            </a:xfrm>
          </p:grpSpPr>
          <p:sp>
            <p:nvSpPr>
              <p:cNvPr id="294" name=""/>
              <p:cNvSpPr txBox="1"/>
              <p:nvPr/>
            </p:nvSpPr>
            <p:spPr>
              <a:xfrm>
                <a:off x="2971800" y="685800"/>
                <a:ext cx="3495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2f01"/>
                      </a:solidFill>
                      <a:miter/>
                    </a:ln>
                    <a:solidFill>
                      <a:srgbClr val="ff2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Tiếng đàn</a:t>
                </a:r>
                <a:endPara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38960" y="11541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.VnTime"/>
                  </a:rPr>
                  <a:t>(L­u Quang Vò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"/>
          <p:cNvSpPr/>
          <p:nvPr/>
        </p:nvSpPr>
        <p:spPr>
          <a:xfrm>
            <a:off x="457200" y="2133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Đọc thầm đoạn 1 và cho biế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8195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uỷ làm những gì để chuẩn bị vào phòng th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28576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ìm những từ ngữ miêu tả âm thanh của cây đà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8576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ử chỉ, nét mặt của Thuỷ khi kéo đàn thể hiện điều gì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57200" y="0"/>
            <a:ext cx="8039160" cy="1553040"/>
            <a:chOff x="457200" y="0"/>
            <a:chExt cx="8039160" cy="1553040"/>
          </a:xfrm>
        </p:grpSpPr>
        <p:sp>
          <p:nvSpPr>
            <p:cNvPr id="304" name=""/>
            <p:cNvSpPr/>
            <p:nvPr/>
          </p:nvSpPr>
          <p:spPr>
            <a:xfrm>
              <a:off x="2225160" y="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ứ ba, ngày 02 tháng 3 năm 2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200" y="716040"/>
              <a:ext cx="2133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Tập đọc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2971800" y="685800"/>
              <a:ext cx="5524560" cy="867240"/>
              <a:chOff x="2971800" y="685800"/>
              <a:chExt cx="5524560" cy="867240"/>
            </a:xfrm>
          </p:grpSpPr>
          <p:sp>
            <p:nvSpPr>
              <p:cNvPr id="307" name=""/>
              <p:cNvSpPr txBox="1"/>
              <p:nvPr/>
            </p:nvSpPr>
            <p:spPr>
              <a:xfrm>
                <a:off x="2971800" y="685800"/>
                <a:ext cx="3495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2f01"/>
                      </a:solidFill>
                      <a:miter/>
                    </a:ln>
                    <a:solidFill>
                      <a:srgbClr val="ff2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Tiếng đàn</a:t>
                </a:r>
                <a:endPara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38960" y="11541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.VnTime"/>
                  </a:rPr>
                  <a:t>(L­u Quang Vò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"/>
          <p:cNvSpPr/>
          <p:nvPr/>
        </p:nvSpPr>
        <p:spPr>
          <a:xfrm>
            <a:off x="304920" y="1447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 Đọc thầm đoạn 2 và cho biế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400800" y="2362320"/>
            <a:ext cx="236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 hãy tìm những chi tiết miêu tả khung cảnh thanh bình ngoài gian phòng như hoà với tiếng đà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9040" y="2114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Đọc đú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4419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2133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ừ ng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5840" y="1386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yện đọ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1447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ìm hiểu bà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57200" y="0"/>
            <a:ext cx="8039160" cy="1553040"/>
            <a:chOff x="457200" y="0"/>
            <a:chExt cx="8039160" cy="1553040"/>
          </a:xfrm>
        </p:grpSpPr>
        <p:sp>
          <p:nvSpPr>
            <p:cNvPr id="321" name=""/>
            <p:cNvSpPr/>
            <p:nvPr/>
          </p:nvSpPr>
          <p:spPr>
            <a:xfrm>
              <a:off x="2225160" y="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ứ ba, ngày 02 tháng 3 năm 2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" y="716040"/>
              <a:ext cx="2133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Tập đọc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2971800" y="685800"/>
              <a:ext cx="5524560" cy="867240"/>
              <a:chOff x="2971800" y="685800"/>
              <a:chExt cx="5524560" cy="867240"/>
            </a:xfrm>
          </p:grpSpPr>
          <p:sp>
            <p:nvSpPr>
              <p:cNvPr id="324" name=""/>
              <p:cNvSpPr txBox="1"/>
              <p:nvPr/>
            </p:nvSpPr>
            <p:spPr>
              <a:xfrm>
                <a:off x="2971800" y="685800"/>
                <a:ext cx="3495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2f01"/>
                      </a:solidFill>
                      <a:miter/>
                    </a:ln>
                    <a:solidFill>
                      <a:srgbClr val="ff2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Tiếng đàn</a:t>
                </a:r>
                <a:endPara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38960" y="11541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.VnTime"/>
                  </a:rPr>
                  <a:t>(L­u Quang Vò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-38160" y="2419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24000" y="276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048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trắng trẻ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3908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ửng h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-57240" y="3747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sẫm mà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40910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khẽ rung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09920" y="2762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3480" y="3100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lên d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76680" y="2438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19440" y="33908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dân ch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4629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Đọc diễn cả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7200" y="0"/>
            <a:ext cx="8039160" cy="1553040"/>
            <a:chOff x="457200" y="0"/>
            <a:chExt cx="8039160" cy="1553040"/>
          </a:xfrm>
        </p:grpSpPr>
        <p:sp>
          <p:nvSpPr>
            <p:cNvPr id="341" name=""/>
            <p:cNvSpPr/>
            <p:nvPr/>
          </p:nvSpPr>
          <p:spPr>
            <a:xfrm>
              <a:off x="2225160" y="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ứ ba, ngày 02 tháng 3 năm 2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" y="716040"/>
              <a:ext cx="2133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Tập đọc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971800" y="685800"/>
              <a:ext cx="5524560" cy="867240"/>
              <a:chOff x="2971800" y="685800"/>
              <a:chExt cx="5524560" cy="867240"/>
            </a:xfrm>
          </p:grpSpPr>
          <p:sp>
            <p:nvSpPr>
              <p:cNvPr id="344" name=""/>
              <p:cNvSpPr txBox="1"/>
              <p:nvPr/>
            </p:nvSpPr>
            <p:spPr>
              <a:xfrm>
                <a:off x="2971800" y="685800"/>
                <a:ext cx="3495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2f01"/>
                      </a:solidFill>
                      <a:miter/>
                    </a:ln>
                    <a:solidFill>
                      <a:srgbClr val="ff2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Tiếng đàn</a:t>
                </a:r>
                <a:endPara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38960" y="11541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.VnTime"/>
                  </a:rPr>
                  <a:t>(L­u Quang Vò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380880" y="2590920"/>
            <a:ext cx="83059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i ắc-sê vừa </a:t>
            </a:r>
            <a:r>
              <a:rPr b="0" lang="en-US" sz="3200" spc="-1" strike="noStrike">
                <a:solidFill>
                  <a:srgbClr val="ff2f01"/>
                </a:solidFill>
                <a:latin typeface="Arial"/>
              </a:rPr>
              <a:t>khẽ ch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ào những sợi dây đà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như có </a:t>
            </a:r>
            <a:r>
              <a:rPr b="0" lang="en-US" sz="3200" spc="-1" strike="noStrike">
                <a:solidFill>
                  <a:srgbClr val="ff2f01"/>
                </a:solidFill>
                <a:latin typeface="Arial"/>
              </a:rPr>
              <a:t>phép l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hững âm thanh </a:t>
            </a:r>
            <a:r>
              <a:rPr b="0" lang="en-US" sz="3200" spc="-1" strike="noStrike">
                <a:solidFill>
                  <a:srgbClr val="ff2f01"/>
                </a:solidFill>
                <a:latin typeface="Arial"/>
              </a:rPr>
              <a:t>trong trẻo vút bay lê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a yên lặng của gian phòng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ầng trán cô bé hơi tái đ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hưng gò má </a:t>
            </a:r>
            <a:r>
              <a:rPr b="0" lang="en-US" sz="3200" spc="-1" strike="noStrike">
                <a:solidFill>
                  <a:srgbClr val="ff2f01"/>
                </a:solidFill>
                <a:latin typeface="Arial"/>
              </a:rPr>
              <a:t>ửng hồ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đôi mắt </a:t>
            </a:r>
            <a:r>
              <a:rPr b="0" lang="en-US" sz="3200" spc="-1" strike="noStrike">
                <a:solidFill>
                  <a:srgbClr val="ff2f01"/>
                </a:solidFill>
                <a:latin typeface="Arial"/>
              </a:rPr>
              <a:t>sẫm mà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ơn, làn mi rậm cong dài </a:t>
            </a:r>
            <a:r>
              <a:rPr b="0" lang="en-US" sz="3200" spc="-1" strike="noStrike">
                <a:solidFill>
                  <a:srgbClr val="ff2f01"/>
                </a:solidFill>
                <a:latin typeface="Arial"/>
              </a:rPr>
              <a:t>khẽ rung độ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1752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Luyện đọc lại - Đọc diễn cảm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981080" y="-190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iếng đ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440" y="457200"/>
            <a:ext cx="8839440" cy="77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uû nhËn c©y ®µn vi-«-l«ng, lªn d©y vµ kÐo thö vµi nèt nh¹c. Sau ®ã, em b­íc vµo phßng thi.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AÙnh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®Ìn h¾t lªn khu«n mÆt tr¾ng trÎo cña em. Em n©ng ®µn ®Æt lªn vai. Khi ¾c-sª võa khÏ ch¹m vµo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sîi d©y ®µ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thì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h­ cã phÐp l¹,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©m thanh trong trÎo vót bay lª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giöõa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yªn lÆng cña gian phßng. VÇng tr¸n c« bÐ h¬i t¸i ®i nh­ng gß m¸ öng hång, ®«i m¾t sÉm mµu h¬n, lµn mi rËm cong dµi khÏ rung ®é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iÕng ®µn bay ra v­ên. Vµi c¸nh ngäc lan ªm ¸i rông xuèng nÒn ®Êt m¸t r­îi. D­íi ®­êng, lò trÎ ®ang rñ nhau th¶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iÕc thuyÒn gÊp b»ng giÊy trª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vòng n­íc m­a. Ngoµi Hå T©y, d©n chµi ®ang tung l­íi b¾t c¸. Hoa m­êi giê në ®á quanh c¸c lèi ®i ven hå. Bãng mÊy con chim bå c©u l­ít nhanh trª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¸i nhµ cao thÊ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040" y="2114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Đọc đú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419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2133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ừ ng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5840" y="1386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yện đọ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1447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ìm hiểu bà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57200" y="0"/>
            <a:ext cx="8039160" cy="1553040"/>
            <a:chOff x="457200" y="0"/>
            <a:chExt cx="8039160" cy="1553040"/>
          </a:xfrm>
        </p:grpSpPr>
        <p:sp>
          <p:nvSpPr>
            <p:cNvPr id="359" name=""/>
            <p:cNvSpPr/>
            <p:nvPr/>
          </p:nvSpPr>
          <p:spPr>
            <a:xfrm>
              <a:off x="2225160" y="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ứ ba, ngày 02 tháng 3 năm 2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7200" y="716040"/>
              <a:ext cx="2133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Tập đọc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2971800" y="685800"/>
              <a:ext cx="5524560" cy="867240"/>
              <a:chOff x="2971800" y="685800"/>
              <a:chExt cx="5524560" cy="867240"/>
            </a:xfrm>
          </p:grpSpPr>
          <p:sp>
            <p:nvSpPr>
              <p:cNvPr id="362" name=""/>
              <p:cNvSpPr txBox="1"/>
              <p:nvPr/>
            </p:nvSpPr>
            <p:spPr>
              <a:xfrm>
                <a:off x="2971800" y="685800"/>
                <a:ext cx="3495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2f01"/>
                      </a:solidFill>
                      <a:miter/>
                    </a:ln>
                    <a:solidFill>
                      <a:srgbClr val="ff2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Tiếng đàn</a:t>
                </a:r>
                <a:endPara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38960" y="11541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.VnTime"/>
                  </a:rPr>
                  <a:t>(L­u Quang Vò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-38160" y="2419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324000" y="276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048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trắng trẻ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3908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ửng h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-57240" y="3747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sẫm mà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40910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khẽ rung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09920" y="2762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43480" y="3100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lên d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76680" y="2438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19440" y="33908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dân ch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4629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Đọc diễn cả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43360" y="39416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ội dung ch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ín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441972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2f01"/>
                </a:solidFill>
                <a:latin typeface="Arial"/>
              </a:rPr>
              <a:t>Tiếng đàn của Thuỷ thật trong trẻo, hồn nhiên, nó hoà hợp với khung cảnh thiên nhiên và cuộc sống xung qua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1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1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19040" y="2114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Đọc đú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419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2133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ừ ng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15840" y="1386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yện đọ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1447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ìm hiểu bà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57200" y="0"/>
            <a:ext cx="8039160" cy="1553040"/>
            <a:chOff x="457200" y="0"/>
            <a:chExt cx="8039160" cy="1553040"/>
          </a:xfrm>
        </p:grpSpPr>
        <p:sp>
          <p:nvSpPr>
            <p:cNvPr id="386" name=""/>
            <p:cNvSpPr/>
            <p:nvPr/>
          </p:nvSpPr>
          <p:spPr>
            <a:xfrm>
              <a:off x="2225160" y="0"/>
              <a:ext cx="517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hứ ba, ngày 02 tháng 3 năm 20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716040"/>
              <a:ext cx="2133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Tập đọc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71800" y="685800"/>
              <a:ext cx="5524560" cy="867240"/>
              <a:chOff x="2971800" y="685800"/>
              <a:chExt cx="5524560" cy="867240"/>
            </a:xfrm>
          </p:grpSpPr>
          <p:sp>
            <p:nvSpPr>
              <p:cNvPr id="389" name=""/>
              <p:cNvSpPr txBox="1"/>
              <p:nvPr/>
            </p:nvSpPr>
            <p:spPr>
              <a:xfrm>
                <a:off x="2971800" y="685800"/>
                <a:ext cx="3495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2f01"/>
                      </a:solidFill>
                      <a:miter/>
                    </a:ln>
                    <a:solidFill>
                      <a:srgbClr val="ff2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Tiếng đàn</a:t>
                </a:r>
                <a:endPara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38960" y="11541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333399"/>
                    </a:solidFill>
                    <a:latin typeface=".VnTime"/>
                  </a:rPr>
                  <a:t>(L­u Quang Vò</a:t>
                </a:r>
                <a:r>
                  <a:rPr b="0" i="1" lang="en-US" sz="1600" spc="-1" strike="noStrike">
                    <a:solidFill>
                      <a:srgbClr val="333399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-38160" y="2419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276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048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trắng trẻ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908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ửng h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57240" y="3747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sẫm mà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40910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+ khẽ rung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09920" y="2762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ắc-s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43480" y="3100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lên dâ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76680" y="2438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vi-ô-l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19440" y="33908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dân ch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4629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Đọc diễn cả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43360" y="39416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ội dung ch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ín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441972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2f01"/>
                </a:solidFill>
                <a:latin typeface="Arial"/>
              </a:rPr>
              <a:t>Tiếng đàn của Thuỷ thật trong trẻo, hồn nhiên, nó hoà hợp với khung cảnh thiên nhiên và cuộc sống xung qua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839080" y="6354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36360" y="27000"/>
            <a:ext cx="9144000" cy="1341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4600" cy="2505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1279440" y="1709640"/>
            <a:ext cx="68580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NI-Avo"/>
              </a:rPr>
              <a:t>Chuùc caùc thaày coâ vaø caùc em maïnh khoû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NI-Avo"/>
              <a:ea typeface="VNI-Avo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5002200"/>
            <a:ext cx="9144000" cy="18558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889360" y="3137040"/>
            <a:ext cx="3438360" cy="22111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4059360" y="0"/>
            <a:ext cx="1828800" cy="1895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0" y="5367240"/>
            <a:ext cx="9342360" cy="14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3144960" y="5388120"/>
            <a:ext cx="3620880" cy="14698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/>
          <a:stretch/>
        </p:blipFill>
        <p:spPr>
          <a:xfrm>
            <a:off x="5924520" y="3830760"/>
            <a:ext cx="3219480" cy="30272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0" y="5388120"/>
            <a:ext cx="3621240" cy="146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222437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5760" y="-144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ứ ba, ngày 02 tháng 3 năm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716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Kiểm tra bài cũ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33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ập đọ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26668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Đọc đoạn 1 và 2 của bài “Đối đáp với vua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809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.VnTime"/>
              </a:rPr>
              <a:t>    </a:t>
            </a:r>
            <a:r>
              <a:rPr b="0" lang="en-US" sz="4400" spc="-1" strike="noStrike">
                <a:solidFill>
                  <a:srgbClr val="ff2f01"/>
                </a:solidFill>
                <a:latin typeface=".VnTime"/>
              </a:rPr>
              <a:t> </a:t>
            </a:r>
            <a:r>
              <a:rPr b="0" lang="en-US" sz="3600" spc="-1" strike="noStrike">
                <a:solidFill>
                  <a:srgbClr val="ff2f01"/>
                </a:solidFill>
                <a:latin typeface="Arial"/>
              </a:rPr>
              <a:t>Cao Bá Quát đã làm gì để được nhìn rõ mặt vua ?</a:t>
            </a:r>
            <a:r>
              <a:rPr b="0" lang="en-US" sz="4400" spc="-1" strike="noStrike">
                <a:solidFill>
                  <a:srgbClr val="ff2f01"/>
                </a:solidFill>
                <a:latin typeface=".VnTime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.VnTime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5760" y="-144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ứ ba, ngày 02 tháng 3 năm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Kiểm tra bài cũ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533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ập đọ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355840" cy="2895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2268360" cy="2895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2438280"/>
            <a:ext cx="3124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Ó l¹i ®o¹n 3 vµ ®o¹n 4 c©u chuyÖ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Đối đáp với v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56272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2f01"/>
                </a:solidFill>
                <a:latin typeface=".VnTime"/>
              </a:rPr>
              <a:t>C</a:t>
            </a:r>
            <a:r>
              <a:rPr b="0" lang="en-US" sz="3600" spc="-1" strike="noStrike">
                <a:solidFill>
                  <a:srgbClr val="ff2f01"/>
                </a:solidFill>
                <a:latin typeface="Arial"/>
              </a:rPr>
              <a:t>âu chuyện cho ta thấy điều gì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70698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3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25160" y="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ứ ba, ngày 02 tháng 3 năm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971800" y="762120"/>
            <a:ext cx="5524560" cy="867240"/>
            <a:chOff x="2971800" y="762120"/>
            <a:chExt cx="5524560" cy="867240"/>
          </a:xfrm>
        </p:grpSpPr>
        <p:sp>
          <p:nvSpPr>
            <p:cNvPr id="205" name=""/>
            <p:cNvSpPr txBox="1"/>
            <p:nvPr/>
          </p:nvSpPr>
          <p:spPr>
            <a:xfrm>
              <a:off x="2971800" y="762120"/>
              <a:ext cx="3495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Tiếng đàn</a:t>
              </a:r>
              <a:endParaRPr b="0" lang="en-US" sz="1800" spc="1" strike="noStrike">
                <a:ln w="9360">
                  <a:solidFill>
                    <a:srgbClr val="ff2f01"/>
                  </a:solidFill>
                  <a:miter/>
                </a:ln>
                <a:solidFill>
                  <a:srgbClr val="ff2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38960" y="12304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.VnTime"/>
                </a:rPr>
                <a:t>(L­u Quang Vò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62120" y="762120"/>
            <a:ext cx="2133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.VnArial"/>
              </a:rPr>
              <a:t>TËp ®ä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333600" cy="4705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952880" y="259092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Lưu Quang Vũ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h ng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à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04/1948 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ấ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g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à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29/08/198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 là </a:t>
            </a:r>
            <a:r>
              <a:rPr b="0" lang="vi-V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hà soạn kịch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vi-V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hà thơ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 và </a:t>
            </a:r>
            <a:r>
              <a:rPr b="0" lang="vi-V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hà văn</a:t>
            </a: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 hiện đại của Việ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81080" y="-190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iếng đ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440" y="457200"/>
            <a:ext cx="8839440" cy="77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uû nhËn c©y ®µn vi-«-l«ng, lªn d©y vµ kÐo thö vµi nèt nh¹c. Sau ®ã, em b­íc vµo phßng thi.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AÙnh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®Ìn h¾t lªn khu«n mÆt tr¾ng trÎo cña em. Em n©ng ®µn ®Æt lªn vai. Khi ¾c-sª võa khÏ ch¹m vµo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sîi d©y ®µ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thì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nh­ cã phÐp l¹,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©m thanh trong trÎo vót bay lª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giöõa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yªn lÆng cña gian phßng. VÇng tr¸n c« bÐ h¬i t¸i ®i nh­ng gß m¸ öng hång, ®«i m¾t sÉm mµu h¬n, lµn mi rËm cong dµi khÏ rung ®é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iÕng ®µn bay ra v­ên. Vµi c¸nh ngäc lan ªm ¸i rông xuèng nÒn ®Êt m¸t r­îi. D­íi ®­êng, lò trÎ ®ang rñ nhau th¶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hiÕc thuyÒn gÊp b»ng giÊy trª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vòng n­íc m­a. Ngoµi Hå T©y, d©n chµi ®ang tung l­íi b¾t c¸. Hoa m­êi giê në ®á quanh c¸c lèi ®i ven hå. Bãng mÊy con chim bå c©u l­ít nhanh trªn 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nhöõng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¸i nhµ cao thÊ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25160" y="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ứ ba, ngày 02 tháng 3 năm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040" y="2114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Đọc đú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419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133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ừ ng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71604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ập đọ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5840" y="1386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yện đọ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1447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ìm hiểu bà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971800" y="685800"/>
            <a:ext cx="5524560" cy="867240"/>
            <a:chOff x="2971800" y="685800"/>
            <a:chExt cx="5524560" cy="867240"/>
          </a:xfrm>
        </p:grpSpPr>
        <p:sp>
          <p:nvSpPr>
            <p:cNvPr id="223" name=""/>
            <p:cNvSpPr txBox="1"/>
            <p:nvPr/>
          </p:nvSpPr>
          <p:spPr>
            <a:xfrm>
              <a:off x="2971800" y="685800"/>
              <a:ext cx="3495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Tiếng đàn</a:t>
              </a:r>
              <a:endParaRPr b="0" lang="en-US" sz="1800" spc="1" strike="noStrike">
                <a:ln w="9360">
                  <a:solidFill>
                    <a:srgbClr val="ff2f01"/>
                  </a:solidFill>
                  <a:miter/>
                </a:ln>
                <a:solidFill>
                  <a:srgbClr val="ff2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38960" y="115416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.VnTime"/>
                </a:rPr>
                <a:t>(L­u Quang Vò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9080" y="2895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vi-ô-l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266760" y="3505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ắc-s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5400" y="4038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trắng trẻ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4648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ửng h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80" y="5195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sẫm mà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360" y="5805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khẽ rung đ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43480" y="3429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ắc-s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14840" y="39765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lên dâ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2895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vi-ô-l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3522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86000" y="380880"/>
            <a:ext cx="5334120" cy="14479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Đàn vi-ô-lô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 còn gọi là Vĩ cầ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5334120"/>
            <a:ext cx="2819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5257800"/>
            <a:ext cx="213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ắc-s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867280" y="43434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372600" cy="708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25160" y="0"/>
            <a:ext cx="51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ứ ba, ngày 02 tháng 3 năm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9040" y="2114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Đọc đú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1828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44197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2133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ừ ngữ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716040"/>
            <a:ext cx="2133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ập đọ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5840" y="1386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yện đọ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1447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ìm hiểu bà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971800" y="685800"/>
            <a:ext cx="5524560" cy="867240"/>
            <a:chOff x="2971800" y="685800"/>
            <a:chExt cx="5524560" cy="867240"/>
          </a:xfrm>
        </p:grpSpPr>
        <p:sp>
          <p:nvSpPr>
            <p:cNvPr id="250" name=""/>
            <p:cNvSpPr txBox="1"/>
            <p:nvPr/>
          </p:nvSpPr>
          <p:spPr>
            <a:xfrm>
              <a:off x="2971800" y="685800"/>
              <a:ext cx="3495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2f01"/>
                    </a:solidFill>
                    <a:miter/>
                  </a:ln>
                  <a:solidFill>
                    <a:srgbClr val="ff2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Tiếng đàn</a:t>
              </a:r>
              <a:endParaRPr b="0" lang="en-US" sz="1800" spc="1" strike="noStrike">
                <a:ln w="9360">
                  <a:solidFill>
                    <a:srgbClr val="ff2f01"/>
                  </a:solidFill>
                  <a:miter/>
                </a:ln>
                <a:solidFill>
                  <a:srgbClr val="ff2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38960" y="115416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.VnTime"/>
                </a:rPr>
                <a:t>(L­u Quang Vò</a:t>
              </a:r>
              <a:r>
                <a:rPr b="0" i="1" lang="en-US" sz="16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9080" y="2895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vi-ô-l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66760" y="3505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ắc-s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400" y="4038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trắng trẻ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320" y="4648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ửng h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" y="51958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sẫm mà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360" y="5805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khẽ rung đ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43480" y="3429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ắc-s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4840" y="39765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lên dâ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8954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vi-ô-l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53000" y="453384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 dân ch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6:17:13Z</dcterms:created>
  <dc:creator>Tuan_Nhung</dc:creator>
  <dc:description/>
  <dc:language>en-US</dc:language>
  <cp:lastModifiedBy>Duong Viet Phuong</cp:lastModifiedBy>
  <dcterms:modified xsi:type="dcterms:W3CDTF">2010-03-01T06:34:27Z</dcterms:modified>
  <cp:revision>116</cp:revision>
  <dc:subject/>
  <dc:title>Slide 1</dc:title>
</cp:coreProperties>
</file>